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5FFBAE-E065-4FD4-9977-8B643C3B10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82FA81F1-78A5-4B0A-AD95-4A73D42C12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6D56E26B-2656-4D22-923B-51225671C0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D8C58B6D-5929-468B-82DB-8B0BF05418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742777-A479-46C1-BA16-C84067347F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4FA9DA3-4B36-4A01-88C7-52CFCCF6E3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172D7BD-27D0-4C37-A86A-482FB4B7A5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3A54EF9E-344A-4E4F-B6F5-84B215E959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2"/>
          </p:nvPr>
        </p:nvSpPr>
        <p:spPr/>
        <p:txBody>
          <a:bodyPr/>
          <a:p>
            <a:fld id="{7F7F7CB4-5D01-4F45-938A-1B23FE1EAF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69693422-49DB-4EFA-B837-B1A6B53B25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5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7AD04180-B196-4B39-8D3D-81240501EC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093A127B-FE64-4A63-A932-950D83B334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5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DF86C277-2BC6-400A-BE16-AC67322E06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39D48B77-2A66-4621-B3CF-3B93F86F9B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4ECDC07A-8EA3-46B4-8950-F7C34EFECC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734AC83D-390D-45B1-AAB8-334AA11C2B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7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B509CEC6-90F2-46CF-BEE0-2F76A70CCE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23278BA2-FBAF-4284-B89E-13A6D7A170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2E6DDF7A-F5EA-4F07-BA41-B05337B22E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499CFB65-6EEB-44D0-AD62-AB5ED0F909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C52808B5-FF21-466B-A05C-E0F52EB013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6BE2279E-4713-4E50-B2DB-5F7550CC5D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D1362495-D23D-4747-B614-DE8ABAE11A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A36DBCC4-2F6F-4881-8251-DAD7626913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F9F3-322F-4021-B361-8386AF284E07}" type="slidenum">
              <a:rPr b="0" lang="en-GB"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40" name="PlaceHolder 2"/>
          <p:cNvSpPr>
            <a:spLocks noGrp="1"/>
          </p:cNvSpPr>
          <p:nvPr>
            <p:ph type="sldNum" idx="2"/>
          </p:nvPr>
        </p:nvSpPr>
        <p:spPr>
          <a:xfrm>
            <a:off x="8028000" y="6244920"/>
            <a:ext cx="658800" cy="47628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C207-7E00-44CC-956F-C62E3DA1DEB4}" type="slidenum">
              <a:rPr b="0" lang="en-GB" sz="1400" spc="-1" strike="noStrike">
                <a:solidFill>
                  <a:srgbClr val="000000"/>
                </a:solidFill>
                <a:latin typeface="Comic Sans MS"/>
              </a:rPr>
              <a:t>&lt;number&gt;</a:t>
            </a:fld>
            <a:endParaRPr b="0" lang="en-US" sz="1400" spc="-1" strike="noStrike">
              <a:solidFill>
                <a:srgbClr val="000000"/>
              </a:solidFill>
              <a:latin typeface="Times New Roman"/>
            </a:endParaRPr>
          </a:p>
        </p:txBody>
      </p:sp>
      <p:pic>
        <p:nvPicPr>
          <p:cNvPr id="41" name="" descr=""/>
          <p:cNvPicPr/>
          <p:nvPr/>
        </p:nvPicPr>
        <p:blipFill>
          <a:blip r:embed="rId2"/>
          <a:stretch/>
        </p:blipFill>
        <p:spPr>
          <a:xfrm>
            <a:off x="1143000" y="2854440"/>
            <a:ext cx="2438280" cy="2327040"/>
          </a:xfrm>
          <a:prstGeom prst="rect">
            <a:avLst/>
          </a:prstGeom>
          <a:ln w="0">
            <a:noFill/>
          </a:ln>
        </p:spPr>
      </p:pic>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cc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808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ff66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sustainability-ed.org/pages/example2-1.htm" TargetMode="External"/><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cwag.org.uk/" TargetMode="External"/><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aste and recycling</a:t>
            </a:r>
            <a:endParaRPr b="0" lang="en-US" sz="4400" spc="-1" strike="noStrike">
              <a:solidFill>
                <a:srgbClr val="aa2266"/>
              </a:solidFill>
              <a:latin typeface="Comic Sans MS"/>
            </a:endParaRPr>
          </a:p>
        </p:txBody>
      </p:sp>
      <p:sp>
        <p:nvSpPr>
          <p:cNvPr id="80" name=""/>
          <p:cNvSpPr/>
          <p:nvPr/>
        </p:nvSpPr>
        <p:spPr>
          <a:xfrm>
            <a:off x="5867280" y="2421000"/>
            <a:ext cx="2160720" cy="1655640"/>
          </a:xfrm>
          <a:prstGeom prst="cloudCallout">
            <a:avLst>
              <a:gd name="adj1" fmla="val -160652"/>
              <a:gd name="adj2" fmla="val 17402"/>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 mu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Now to a site</a:t>
            </a:r>
            <a:endParaRPr b="0" lang="en-US" sz="4400" spc="-1" strike="noStrike">
              <a:solidFill>
                <a:srgbClr val="aa2266"/>
              </a:solidFill>
              <a:latin typeface="Comic Sans MS"/>
            </a:endParaRPr>
          </a:p>
        </p:txBody>
      </p:sp>
      <p:sp>
        <p:nvSpPr>
          <p:cNvPr id="99" name="PlaceHolder 2"/>
          <p:cNvSpPr>
            <a:spLocks noGrp="1"/>
          </p:cNvSpPr>
          <p:nvPr>
            <p:ph type="subTitle"/>
          </p:nvPr>
        </p:nvSpPr>
        <p:spPr>
          <a:xfrm>
            <a:off x="1042560" y="1989000"/>
            <a:ext cx="7201080" cy="1176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8a"/>
                </a:solidFill>
                <a:uFillTx/>
                <a:latin typeface="Comic Sans MS"/>
                <a:hlinkClick r:id="rId1"/>
              </a:rPr>
              <a:t>http://www.sustainability-ed.org/pages/example2-1.htm</a:t>
            </a:r>
            <a:r>
              <a:rPr b="0" lang="en-US" sz="3200" spc="-1" strike="noStrike" u="sng">
                <a:solidFill>
                  <a:srgbClr val="000000"/>
                </a:solidFill>
                <a:uFillTx/>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Look at what the rest of the EU are doing?</a:t>
            </a:r>
            <a:endParaRPr b="0" lang="en-US" sz="4000" spc="-1" strike="noStrike">
              <a:solidFill>
                <a:srgbClr val="aa2266"/>
              </a:solidFill>
              <a:latin typeface="Comic Sans MS"/>
            </a:endParaRPr>
          </a:p>
        </p:txBody>
      </p:sp>
      <p:pic>
        <p:nvPicPr>
          <p:cNvPr id="101" name="" descr=""/>
          <p:cNvPicPr/>
          <p:nvPr/>
        </p:nvPicPr>
        <p:blipFill>
          <a:blip r:embed="rId1"/>
          <a:stretch/>
        </p:blipFill>
        <p:spPr>
          <a:xfrm>
            <a:off x="611280" y="1487520"/>
            <a:ext cx="7596000" cy="506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Most of the recycled stuff ends up in landfill anyway</a:t>
            </a:r>
            <a:endParaRPr b="0" lang="en-US" sz="4000" spc="-1" strike="noStrike">
              <a:solidFill>
                <a:srgbClr val="aa2266"/>
              </a:solidFill>
              <a:latin typeface="Comic Sans MS"/>
            </a:endParaRPr>
          </a:p>
        </p:txBody>
      </p:sp>
      <p:sp>
        <p:nvSpPr>
          <p:cNvPr id="103"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451"/>
              </a:spcBef>
              <a:buSzPct val="1097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omic Sans MS"/>
              </a:rPr>
              <a:t>(Source: West Oxford District Council press release August 2006)</a:t>
            </a:r>
            <a:r>
              <a:rPr b="0" lang="en-GB"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ASS - 70% of glass is sold to the UK glass industry and recycled for bottle making and fibreglass manufacture. A small amount is used in road aggregate (WODC glass goes to a recycler in West Yorkshire). The other 30% goes to the European glass market, mainly to Italy, France, Spain and Portugal, making bottles of a darker green because of having been made from a variety of colours.</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S - Our food and drink cans go to South Wales. The steel is recovered and sold globally. The aluminium is sold within the UK and made into new drinks cans. The process of recycling used drinks cans to make new ones can take as little as 6 weeks from bin to supermarke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Most of the recycled stuff ends up in landfill anyway</a:t>
            </a:r>
            <a:endParaRPr b="0" lang="en-US" sz="4000" spc="-1" strike="noStrike">
              <a:solidFill>
                <a:srgbClr val="aa2266"/>
              </a:solidFill>
              <a:latin typeface="Comic Sans MS"/>
            </a:endParaRPr>
          </a:p>
        </p:txBody>
      </p:sp>
      <p:sp>
        <p:nvSpPr>
          <p:cNvPr id="105"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DBOARD - Our cardboard goes to a processor in Doncaster where it is recovered, bulked and sold to paper and cardboard mills. Each time cardboard is pulped, the fibres get shorter, but even so, cardboard can be recycled 4 or 5 times. Uses include boxes and packaging, stationery, and animal bedding.</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PER - WODC paper goes to Kent where it is made into newsprint. Higher grade office paper from the WODC offices is sold on to be made into tissue paper products.</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STICS - Plastics go to a recycler in Lancashire where mixed plastics make a wide range of products such as drain pipes, insulation materials, flower pots, watering cans, and fleece material. Myth - Plastic is exported to China and dumped in landfill!</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Most of the recycled stuff ends up in landfill anyway</a:t>
            </a:r>
            <a:endParaRPr b="0" lang="en-US" sz="4000" spc="-1" strike="noStrike">
              <a:solidFill>
                <a:srgbClr val="aa2266"/>
              </a:solidFill>
              <a:latin typeface="Comic Sans MS"/>
            </a:endParaRPr>
          </a:p>
        </p:txBody>
      </p:sp>
      <p:sp>
        <p:nvSpPr>
          <p:cNvPr id="107"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XTILES - Textiles from recycling centres are collected by Cope and taken to their charity shops for resale. Those not suitable for that are sold to rag merchants. Materials collected at the kerbside are sent as second-hand clothes to the third world. Other materials are baled and produce wiping cloths or sold to make insulating material and other products.</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bric Facts</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urce: CAG Oxfordshire Newsletter October 2006)</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arly 70% of items put into clothing banks are reused as clothes. Any unwearable items are sold to merchants to be recycled as factory wiping cloths.</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LoGo are a team of volunteer designers set up by Oxfam who restyle donated garments and fabrics, selling them on at some Oxfam shop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Most of the recycled stuff ends up in landfill anyway</a:t>
            </a:r>
            <a:endParaRPr b="0" lang="en-US" sz="4000" spc="-1" strike="noStrike">
              <a:solidFill>
                <a:srgbClr val="aa2266"/>
              </a:solidFill>
              <a:latin typeface="Comic Sans MS"/>
            </a:endParaRPr>
          </a:p>
        </p:txBody>
      </p:sp>
      <p:sp>
        <p:nvSpPr>
          <p:cNvPr id="109"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least 50% of the textiles we throw away are recyclable.</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everyone in the UK bought one reclaimed woolen garment each year it would save an average of 371 million gallons of water and 480 tonnes of chemical dyestuffs.</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estimated that more that 1 million tonnes of textiles are thrown away every year, with most of this coming from household sources.</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wearable trousers, skirts, etc are sold to the 'flocking' industry which shreds them for fillers in car insulation, roofing felts, loudspeaker cones, panel linings, furniture padding etc.</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ver 70% of the world's population use secondhand cloth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04640"/>
            <a:ext cx="7772400" cy="266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a2266"/>
                </a:solidFill>
                <a:latin typeface="Comic Sans MS"/>
              </a:rPr>
              <a:t>This came from</a:t>
            </a:r>
            <a:br>
              <a:rPr sz="4000"/>
            </a:br>
            <a:r>
              <a:rPr b="0" lang="en-GB" sz="4000" spc="-1" strike="noStrike" u="sng">
                <a:solidFill>
                  <a:srgbClr val="66008a"/>
                </a:solidFill>
                <a:uFillTx/>
                <a:latin typeface="Comic Sans MS"/>
                <a:hlinkClick r:id="rId1"/>
              </a:rPr>
              <a:t>http://www.cwag.org.uk/</a:t>
            </a:r>
            <a:r>
              <a:rPr b="0" lang="en-GB" sz="4000" spc="-1" strike="noStrike">
                <a:solidFill>
                  <a:srgbClr val="aa2266"/>
                </a:solidFill>
                <a:latin typeface="Comic Sans MS"/>
              </a:rPr>
              <a:t> </a:t>
            </a:r>
            <a:br>
              <a:rPr sz="4000"/>
            </a:br>
            <a:r>
              <a:rPr b="0" lang="en-US" sz="4000" spc="-1" strike="noStrike">
                <a:solidFill>
                  <a:srgbClr val="aa2266"/>
                </a:solidFill>
                <a:latin typeface="Comic Sans MS"/>
              </a:rPr>
              <a:t>Charlbury Area Waste Action Group </a:t>
            </a:r>
            <a:endParaRPr b="0" lang="en-US" sz="4000" spc="-1" strike="noStrike">
              <a:solidFill>
                <a:srgbClr val="aa2266"/>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Recycling in Third World Cities </a:t>
            </a:r>
            <a:endParaRPr b="0" lang="en-US" sz="4400" spc="-1" strike="noStrike">
              <a:solidFill>
                <a:srgbClr val="aa2266"/>
              </a:solidFill>
              <a:latin typeface="Comic Sans MS"/>
            </a:endParaRPr>
          </a:p>
        </p:txBody>
      </p:sp>
      <p:sp>
        <p:nvSpPr>
          <p:cNvPr id="112"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rban waste is a serious health risk to the slum dwellers and squatter settlers who make up about 40% of the developing world's urban population of 1.1 billion, according to Carl Bartone, a senior project officer for the Integrated Resource Recovery Project at the World Bank. </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any of these squatters live near garbage dumps, and some live literally on top of them. </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cities face difficulties in collecting and disposing of wastes, although they spend as much as 50% of their operating budgets on solid-waste managemen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228240"/>
            <a:ext cx="84582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a2266"/>
                </a:solidFill>
                <a:latin typeface="Comic Sans MS"/>
              </a:rPr>
              <a:t>Zabaleens in Cairo</a:t>
            </a:r>
            <a:endParaRPr b="0" lang="en-US" sz="4400" spc="-1" strike="noStrike">
              <a:solidFill>
                <a:srgbClr val="aa2266"/>
              </a:solidFill>
              <a:latin typeface="Comic Sans MS"/>
            </a:endParaRPr>
          </a:p>
        </p:txBody>
      </p:sp>
      <p:sp>
        <p:nvSpPr>
          <p:cNvPr id="114" name="PlaceHolder 2"/>
          <p:cNvSpPr>
            <a:spLocks noGrp="1"/>
          </p:cNvSpPr>
          <p:nvPr>
            <p:ph/>
          </p:nvPr>
        </p:nvSpPr>
        <p:spPr>
          <a:xfrm>
            <a:off x="380880" y="980640"/>
            <a:ext cx="8382240" cy="5496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innovative waste-management solutions are emerging that help provide jobs, improve living conditions, and protect the environment.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airo, some 30,000 Zabaleens  (Coptic Christians from southern Egypt) make up a network of well-organized and highly efficient garbage collector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air of Zabaleens working with a horse-drawn carriage can collect garbage from 350 households in a day. </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sorting the garbage, the collectors will feed the edible garbage (about two-thirds of the total) to pigs and goats to fatten them for market; sell pig droppings and human excrement to farmers for fertilizer; </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sell scrap metal, glass, paper, and plastics to middlemen, who then sell the materials to craftsmen.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8320" y="333360"/>
            <a:ext cx="4114800" cy="614376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Zabaleens make as much as three times the average income in Cairo," says Bartone. </a:t>
            </a:r>
            <a:endParaRPr b="0" lang="en-US" sz="3600" spc="-1" strike="noStrike">
              <a:solidFill>
                <a:srgbClr val="000000"/>
              </a:solidFill>
              <a:latin typeface="Comic Sans MS"/>
            </a:endParaRPr>
          </a:p>
        </p:txBody>
      </p:sp>
      <p:pic>
        <p:nvPicPr>
          <p:cNvPr id="116" name="" descr=""/>
          <p:cNvPicPr/>
          <p:nvPr/>
        </p:nvPicPr>
        <p:blipFill>
          <a:blip r:embed="rId2"/>
          <a:stretch/>
        </p:blipFill>
        <p:spPr>
          <a:xfrm>
            <a:off x="539640" y="476280"/>
            <a:ext cx="3672000" cy="2448000"/>
          </a:xfrm>
          <a:prstGeom prst="rect">
            <a:avLst/>
          </a:prstGeom>
          <a:ln w="0">
            <a:noFill/>
          </a:ln>
        </p:spPr>
      </p:pic>
      <p:pic>
        <p:nvPicPr>
          <p:cNvPr id="117" name="_41209541_zab2_203" descr=""/>
          <p:cNvPicPr/>
          <p:nvPr/>
        </p:nvPicPr>
        <p:blipFill>
          <a:blip r:embed=""/>
          <a:stretch/>
        </p:blipFill>
        <p:spPr>
          <a:xfrm>
            <a:off x="395280" y="3284640"/>
            <a:ext cx="3959280" cy="29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600"/>
            <a:ext cx="462744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ere does all the waste come from?</a:t>
            </a:r>
            <a:endParaRPr b="0" lang="en-US" sz="4400" spc="-1" strike="noStrike">
              <a:solidFill>
                <a:srgbClr val="aa2266"/>
              </a:solidFill>
              <a:latin typeface="Comic Sans MS"/>
            </a:endParaRPr>
          </a:p>
        </p:txBody>
      </p:sp>
      <p:sp>
        <p:nvSpPr>
          <p:cNvPr id="82" name="PlaceHolder 2"/>
          <p:cNvSpPr>
            <a:spLocks noGrp="1"/>
          </p:cNvSpPr>
          <p:nvPr>
            <p:ph/>
          </p:nvPr>
        </p:nvSpPr>
        <p:spPr>
          <a:xfrm>
            <a:off x="380520" y="2276640"/>
            <a:ext cx="4622760" cy="42004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400 million tonnes of waste produced in the UK each year comes from a variety of sources. </a:t>
            </a:r>
            <a:endParaRPr b="0" lang="en-US" sz="2800" spc="-1" strike="noStrike">
              <a:solidFill>
                <a:srgbClr val="000000"/>
              </a:solidFill>
              <a:latin typeface="Comic Sans MS"/>
            </a:endParaRPr>
          </a:p>
        </p:txBody>
      </p:sp>
      <p:pic>
        <p:nvPicPr>
          <p:cNvPr id="83" name="" descr=""/>
          <p:cNvPicPr/>
          <p:nvPr/>
        </p:nvPicPr>
        <p:blipFill>
          <a:blip r:embed="rId2"/>
          <a:stretch/>
        </p:blipFill>
        <p:spPr>
          <a:xfrm>
            <a:off x="5083200" y="260280"/>
            <a:ext cx="3521160" cy="6337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880" y="620640"/>
            <a:ext cx="8382240" cy="58564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many developing countries, up to 2% of the population is supported directly or indirectly by refuse from the upper 20% of the population.”</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rivate garbage collectors and sorters also benefit from recycling. Mexico's Juarez City Co-operative of Materials Recoverers, established in 1975, recovers and sells approximately 5% of the waste stream. In 1984, the cooperative had sales of $31 million, compared with only $6.3 million in operating cost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80880" y="620640"/>
            <a:ext cx="8382240" cy="585648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addition, sensible waste management creates energy in the form of biogas and provides raw material for such inexpensive products as water pipes, beverage containers, buckets, lamps, stoves, and sandal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Integrated Resource Recovery Project, established by the United Nations Development Programme and the World Bank in 1981, aims to demonstrate appropriate solutions that would enable cities to improve their waste-management capacity and make better use of limited financial resources by recovering the value inherent in wast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recovery methods that the IRRP has studied include using waste water as refill material to reclaim low-lying swampland and using treated water for irrigation and fish cultivation.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omework</a:t>
            </a:r>
            <a:endParaRPr b="0" lang="en-US" sz="4400" spc="-1" strike="noStrike">
              <a:solidFill>
                <a:srgbClr val="aa2266"/>
              </a:solidFill>
              <a:latin typeface="Comic Sans MS"/>
            </a:endParaRPr>
          </a:p>
        </p:txBody>
      </p:sp>
      <p:sp>
        <p:nvSpPr>
          <p:cNvPr id="121"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google put</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r council area)  news waste recycling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ick a story from the news</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 brief summary of what the story is about and comment on it – I chose this because …. </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 tried Powys – for me and I also tried GLC for London</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ose of you not in the UK, either use the local area where you live – which will mean the local language – or if you prefer, choose a place in the UK that you know quite well – your choic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aste is …</a:t>
            </a:r>
            <a:endParaRPr b="0" lang="en-US" sz="4400" spc="-1" strike="noStrike">
              <a:solidFill>
                <a:srgbClr val="aa2266"/>
              </a:solidFill>
              <a:latin typeface="Comic Sans MS"/>
            </a:endParaRPr>
          </a:p>
        </p:txBody>
      </p:sp>
      <p:sp>
        <p:nvSpPr>
          <p:cNvPr id="85"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thing which is no longer useful to people.</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UK we throw away 25 million tonnes of household waste every year</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s nearly 350 kilos of waste for every person!</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times of your body weight is th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at do you throw away?</a:t>
            </a:r>
            <a:endParaRPr b="0" lang="en-US" sz="4400" spc="-1" strike="noStrike">
              <a:solidFill>
                <a:srgbClr val="aa2266"/>
              </a:solidFill>
              <a:latin typeface="Comic Sans MS"/>
            </a:endParaRPr>
          </a:p>
        </p:txBody>
      </p:sp>
      <p:sp>
        <p:nvSpPr>
          <p:cNvPr id="87" name=""/>
          <p:cNvSpPr/>
          <p:nvPr/>
        </p:nvSpPr>
        <p:spPr>
          <a:xfrm>
            <a:off x="5867280" y="2421000"/>
            <a:ext cx="2521080" cy="1655640"/>
          </a:xfrm>
          <a:prstGeom prst="cloudCallout">
            <a:avLst>
              <a:gd name="adj1" fmla="val -144837"/>
              <a:gd name="adj2" fmla="val 17402"/>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stic wrapp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effects?</a:t>
            </a:r>
            <a:endParaRPr b="0" lang="en-US" sz="4400" spc="-1" strike="noStrike">
              <a:solidFill>
                <a:srgbClr val="aa2266"/>
              </a:solidFill>
              <a:latin typeface="Comic Sans MS"/>
            </a:endParaRPr>
          </a:p>
        </p:txBody>
      </p:sp>
      <p:sp>
        <p:nvSpPr>
          <p:cNvPr id="89"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owing away this much waste uses up precious resources.</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ch of our waste is made from finite resources – materials that once used cannot be replaced – which are they?</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so more energy can go to make new materials than reuse old ones – so throwing them away wastes energy – which might they b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More effects</a:t>
            </a:r>
            <a:endParaRPr b="0" lang="en-US" sz="4400" spc="-1" strike="noStrike">
              <a:solidFill>
                <a:srgbClr val="aa2266"/>
              </a:solidFill>
              <a:latin typeface="Comic Sans MS"/>
            </a:endParaRPr>
          </a:p>
        </p:txBody>
      </p:sp>
      <p:sp>
        <p:nvSpPr>
          <p:cNvPr id="91"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3% of household waste end up in landfill sites</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look bad, take up space and attract vermin.</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xic substances accumulate, e.g. chemicals from batteries</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 of waste is incinerated. But this pollutes the air and there are worries about plastics releasing toxins into the air.</a:t>
            </a:r>
            <a:endParaRPr b="0" lang="en-US" sz="28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as we saw last week, better methods of releasing energy from waste will become more importa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But instead of burying or burning …</a:t>
            </a:r>
            <a:endParaRPr b="0" lang="en-US" sz="3600" spc="-1" strike="noStrike">
              <a:solidFill>
                <a:srgbClr val="aa2266"/>
              </a:solidFill>
              <a:latin typeface="Comic Sans MS"/>
            </a:endParaRPr>
          </a:p>
        </p:txBody>
      </p:sp>
      <p:sp>
        <p:nvSpPr>
          <p:cNvPr id="93"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bout recycling?</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urrently we recycle about 8% of our waste</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could be as much as 70%</a:t>
            </a:r>
            <a:endParaRPr b="0" lang="en-US" sz="3200" spc="-1" strike="noStrike">
              <a:solidFill>
                <a:srgbClr val="000000"/>
              </a:solidFill>
              <a:latin typeface="Comic Sans MS"/>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nk the word recycling with each of these words</a:t>
            </a:r>
            <a:endParaRPr b="0" lang="en-US" sz="3200" spc="-1" strike="noStrike">
              <a:solidFill>
                <a:srgbClr val="000000"/>
              </a:solidFill>
              <a:latin typeface="Comic Sans MS"/>
            </a:endParaRPr>
          </a:p>
          <a:p>
            <a:pPr lvl="1" marL="743040" indent="-28584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ources</a:t>
            </a:r>
            <a:endParaRPr b="0" lang="en-US" sz="2800" spc="-1" strike="noStrike">
              <a:solidFill>
                <a:srgbClr val="000000"/>
              </a:solidFill>
              <a:latin typeface="Comic Sans MS"/>
            </a:endParaRPr>
          </a:p>
          <a:p>
            <a:pPr lvl="1" marL="743040" indent="-28584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a:t>
            </a:r>
            <a:endParaRPr b="0" lang="en-US" sz="2800" spc="-1" strike="noStrike">
              <a:solidFill>
                <a:srgbClr val="000000"/>
              </a:solidFill>
              <a:latin typeface="Comic Sans MS"/>
            </a:endParaRPr>
          </a:p>
          <a:p>
            <a:pPr lvl="1" marL="743040" indent="-28584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lution</a:t>
            </a:r>
            <a:endParaRPr b="0" lang="en-US" sz="2800" spc="-1" strike="noStrike">
              <a:solidFill>
                <a:srgbClr val="000000"/>
              </a:solidFill>
              <a:latin typeface="Comic Sans MS"/>
            </a:endParaRPr>
          </a:p>
          <a:p>
            <a:pPr lvl="1" marL="743040" indent="-28584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stainable developm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Recycling glass</a:t>
            </a:r>
            <a:endParaRPr b="0" lang="en-US" sz="4400" spc="-1" strike="noStrike">
              <a:solidFill>
                <a:srgbClr val="aa2266"/>
              </a:solidFill>
              <a:latin typeface="Comic Sans MS"/>
            </a:endParaRPr>
          </a:p>
        </p:txBody>
      </p:sp>
      <p:sp>
        <p:nvSpPr>
          <p:cNvPr id="95"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duces waste</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ves energy</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takes 20% less energy to produce bottles from recycled glass</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150 000 bottle banks nationwide in the UK</a:t>
            </a:r>
            <a:endParaRPr b="0" lang="en-US" sz="2800" spc="-1" strike="noStrike">
              <a:solidFill>
                <a:srgbClr val="000000"/>
              </a:solidFill>
              <a:latin typeface="Comic Sans MS"/>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you use them?</a:t>
            </a:r>
            <a:endParaRPr b="0" lang="en-US" sz="2800" spc="-1" strike="noStrike">
              <a:solidFill>
                <a:srgbClr val="000000"/>
              </a:solidFill>
              <a:latin typeface="Comic Sans MS"/>
            </a:endParaRPr>
          </a:p>
          <a:p>
            <a:pPr marL="343080" indent="-34308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 do the refuse men take your bottles away separately</a:t>
            </a:r>
            <a:endParaRPr b="0" lang="en-US" sz="2800" spc="-1" strike="noStrike">
              <a:solidFill>
                <a:srgbClr val="000000"/>
              </a:solidFill>
              <a:latin typeface="Comic Sans MS"/>
            </a:endParaRPr>
          </a:p>
          <a:p>
            <a:pPr marL="343080" indent="-343080">
              <a:lnSpc>
                <a:spcPct val="8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f 6 billion bottles used in the UK, 29% are recycled</a:t>
            </a:r>
            <a:endParaRPr b="0" lang="en-US" sz="2800" spc="-1" strike="noStrike">
              <a:solidFill>
                <a:srgbClr val="000000"/>
              </a:solidFill>
              <a:latin typeface="Comic Sans MS"/>
            </a:endParaRPr>
          </a:p>
          <a:p>
            <a:pPr marL="343080" indent="-343080">
              <a:lnSpc>
                <a:spcPct val="8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many bottles per person are recycle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Recycling aluminium</a:t>
            </a:r>
            <a:endParaRPr b="0" lang="en-US" sz="4400" spc="-1" strike="noStrike">
              <a:solidFill>
                <a:srgbClr val="aa2266"/>
              </a:solidFill>
              <a:latin typeface="Comic Sans MS"/>
            </a:endParaRPr>
          </a:p>
        </p:txBody>
      </p:sp>
      <p:sp>
        <p:nvSpPr>
          <p:cNvPr id="97"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costs a lot to produce because it uses LOTS of energy</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ycled aluminium takes 95% less energy and causes 99% less pollution that production it from bauxite rock.</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 5 billion aluminium cans produced , 1.6 billion are recycled</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3.2 billion, worth £24 billion as scrap end up in land fil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9T13:06:59Z</dcterms:created>
  <dc:creator> Lindy McGuinness</dc:creator>
  <dc:description/>
  <dc:language>en-US</dc:language>
  <cp:lastModifiedBy>Lindy</cp:lastModifiedBy>
  <dcterms:modified xsi:type="dcterms:W3CDTF">2010-05-13T21:52:32Z</dcterms:modified>
  <cp:revision>8</cp:revision>
  <dc:subject/>
  <dc:title>Waste and recycling</dc:title>
</cp:coreProperties>
</file>